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B092-CBC5-492E-9B90-E099B61607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1B16-65DD-4F42-82D2-7C843A4CB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057D-C881-446F-B0DD-870B16AC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477A-BFBF-4427-899E-E8BD5269D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2AB2-B160-4624-9ED2-7C7BA7823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94CF-BA21-4430-86BB-0DFF639B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1210-8CB2-485D-B6EE-26E70C07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479F-8910-4CB4-8441-239263A4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06CB-70A1-442A-9536-D3DF823D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89F8-1D53-475A-8AC3-96E8E8B7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EB5C-9A5B-48CC-B532-75DDA1EB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884E-A42C-4103-B741-9A02A203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B94C-B868-4828-8EDD-8D600AAA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87F5-8EC9-4FF5-8D6F-69ECDAD28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MEDIEVAL THOU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milan%20cathedral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324480" cy="55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-36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o main directions in architecture - Romanesque and Goth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en in cathed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ligion is complete outlet for artistic and emotional outpourings of early medieval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Times New Roman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typical%20basilica%20plan" descr=""/>
          <p:cNvPicPr/>
          <p:nvPr/>
        </p:nvPicPr>
        <p:blipFill>
          <a:blip r:embed="rId1"/>
          <a:stretch/>
        </p:blipFill>
        <p:spPr>
          <a:xfrm>
            <a:off x="4572000" y="1593720"/>
            <a:ext cx="4572000" cy="3110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952880" y="495288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ense and time to build cathedr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ver $50 b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ilgrim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533160" y="1599840"/>
            <a:ext cx="3276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manes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rlier building techn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erved or created at Clu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cker walls, stone barrel vault, small windows to support ceiling we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Times New Roman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romanesque%20nave" descr=""/>
          <p:cNvPicPr/>
          <p:nvPr/>
        </p:nvPicPr>
        <p:blipFill>
          <a:blip r:embed="rId1"/>
          <a:stretch/>
        </p:blipFill>
        <p:spPr>
          <a:xfrm>
            <a:off x="4106880" y="0"/>
            <a:ext cx="503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St.%20Sernin%20distance" descr=""/>
          <p:cNvPicPr/>
          <p:nvPr/>
        </p:nvPicPr>
        <p:blipFill>
          <a:blip r:embed="rId1"/>
          <a:stretch/>
        </p:blipFill>
        <p:spPr>
          <a:xfrm>
            <a:off x="0" y="4680"/>
            <a:ext cx="5621400" cy="5613480"/>
          </a:xfrm>
          <a:prstGeom prst="rect">
            <a:avLst/>
          </a:prstGeom>
          <a:ln w="0">
            <a:noFill/>
          </a:ln>
        </p:spPr>
      </p:pic>
      <p:pic>
        <p:nvPicPr>
          <p:cNvPr id="76" name="St.%20Sernin,%20nave" descr=""/>
          <p:cNvPicPr/>
          <p:nvPr/>
        </p:nvPicPr>
        <p:blipFill>
          <a:blip r:embed="rId2"/>
          <a:stretch/>
        </p:blipFill>
        <p:spPr>
          <a:xfrm>
            <a:off x="5996160" y="2057400"/>
            <a:ext cx="3147840" cy="4800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60958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. Sernin Cathed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5880" y="1143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. Sernin n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4114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th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ve is wider than Romanes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nted 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ller walls, thinner ro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lls thinner and more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ying butt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rgoyles,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Times New Roman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267080" y="0"/>
            <a:ext cx="488484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487760" y="0"/>
            <a:ext cx="465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009880" y="0"/>
            <a:ext cx="5153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ypical%20basilica%20parts" descr=""/>
          <p:cNvPicPr/>
          <p:nvPr/>
        </p:nvPicPr>
        <p:blipFill>
          <a:blip r:embed="rId1"/>
          <a:stretch/>
        </p:blipFill>
        <p:spPr>
          <a:xfrm>
            <a:off x="0" y="0"/>
            <a:ext cx="3733920" cy="4800600"/>
          </a:xfrm>
          <a:prstGeom prst="rect">
            <a:avLst/>
          </a:prstGeom>
          <a:ln w="0">
            <a:noFill/>
          </a:ln>
        </p:spPr>
      </p:pic>
      <p:pic>
        <p:nvPicPr>
          <p:cNvPr id="85" name="typical%20basilica%20plan3" descr=""/>
          <p:cNvPicPr/>
          <p:nvPr/>
        </p:nvPicPr>
        <p:blipFill>
          <a:blip r:embed="rId2"/>
          <a:stretch/>
        </p:blipFill>
        <p:spPr>
          <a:xfrm>
            <a:off x="3886200" y="3763800"/>
            <a:ext cx="525780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rose%20window" descr=""/>
          <p:cNvPicPr/>
          <p:nvPr/>
        </p:nvPicPr>
        <p:blipFill>
          <a:blip r:embed="rId1"/>
          <a:stretch/>
        </p:blipFill>
        <p:spPr>
          <a:xfrm>
            <a:off x="4778280" y="0"/>
            <a:ext cx="436572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stained%20glass" descr=""/>
          <p:cNvPicPr/>
          <p:nvPr/>
        </p:nvPicPr>
        <p:blipFill>
          <a:blip r:embed="rId2"/>
          <a:stretch/>
        </p:blipFill>
        <p:spPr>
          <a:xfrm>
            <a:off x="-71280" y="685800"/>
            <a:ext cx="4863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gargoyles" descr=""/>
          <p:cNvPicPr/>
          <p:nvPr/>
        </p:nvPicPr>
        <p:blipFill>
          <a:blip r:embed="rId1"/>
          <a:stretch/>
        </p:blipFill>
        <p:spPr>
          <a:xfrm>
            <a:off x="0" y="0"/>
            <a:ext cx="458136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gargoyles2" descr=""/>
          <p:cNvPicPr/>
          <p:nvPr/>
        </p:nvPicPr>
        <p:blipFill>
          <a:blip r:embed="rId2"/>
          <a:stretch/>
        </p:blipFill>
        <p:spPr>
          <a:xfrm>
            <a:off x="4916520" y="0"/>
            <a:ext cx="4227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ergence of vernacular printings - illuminated manuscri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pic poems transmitted orally are now written - 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ing lite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line in use of Latin - not even all priests can read it (but they are “reading” the Bible each wee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oubadours and courtly love po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nges knightly duties - chival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u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terature and Court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terature and Court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ousting1" descr=""/>
          <p:cNvPicPr/>
          <p:nvPr/>
        </p:nvPicPr>
        <p:blipFill>
          <a:blip r:embed="rId1"/>
          <a:stretch/>
        </p:blipFill>
        <p:spPr>
          <a:xfrm>
            <a:off x="0" y="1828800"/>
            <a:ext cx="4187880" cy="5029200"/>
          </a:xfrm>
          <a:prstGeom prst="rect">
            <a:avLst/>
          </a:prstGeom>
          <a:ln w="0">
            <a:noFill/>
          </a:ln>
        </p:spPr>
      </p:pic>
      <p:pic>
        <p:nvPicPr>
          <p:cNvPr id="94" name="jousting2" descr=""/>
          <p:cNvPicPr/>
          <p:nvPr/>
        </p:nvPicPr>
        <p:blipFill>
          <a:blip r:embed="rId2"/>
          <a:stretch/>
        </p:blipFill>
        <p:spPr>
          <a:xfrm>
            <a:off x="4680000" y="1905120"/>
            <a:ext cx="446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880" y="1980720"/>
            <a:ext cx="4114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ergence of Univers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nciling God and Rea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. Thomas Aqu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terature and court lif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Main Concepts in Medieval Thou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Adam%20creating%20the%20animals" descr=""/>
          <p:cNvPicPr/>
          <p:nvPr/>
        </p:nvPicPr>
        <p:blipFill>
          <a:blip r:embed="rId1"/>
          <a:stretch/>
        </p:blipFill>
        <p:spPr>
          <a:xfrm>
            <a:off x="4776840" y="1219320"/>
            <a:ext cx="43671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luence of noblewo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ite poets to cou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ve of a “good woman” would make a better kn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zy demands on kni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the often, dress neatly, ability to carry on a civilized conversation, compose poetry, play instr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ying to get knights to do things besides carve up enem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terature and Court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5960" y="1218960"/>
            <a:ext cx="7543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nte Alighieri (1265-132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he Divine Come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andon all hope, ye who ente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ry of his view of life, and how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fe was viewed in his time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ws the hierarchy in life and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ter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rcles of h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inth circle is ice - symbolizing absence of God’s love, weight of sin holds men down, Satan as a three headed beast (opposite of Go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terature and Court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72120" y="1295280"/>
            <a:ext cx="30718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Delacroix_barque_of_Dante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37720" y="220932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erge during the 1200s - why n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d of invasions by Vikings, Magyars and Musli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ing stability from larger kingd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ival of trade and growth of lite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ct with Byzantium and Islamic cul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Rise of Univers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38080" y="220932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gins and early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w spontaneously - listen to a teac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 in Italy and expand no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uild for instructors and students (male on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est high 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mands on instru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es for poorly attended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Rise of Univers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 life - “very carefre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classes a week is full 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nt books (no printing until 145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 calle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riviu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rammar, rhetoric, logic), in 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 calle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quadriviu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math, geometry, astronomy, music and Aristotle) in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 more years for Ph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nder all over Europe attending univers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nching/drin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Rise of Univers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believe, that I may know.”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t. Augusti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holasticism - rational, based entirely on log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to solve a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ult bible and/or church wri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 logic of Aristo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sh live in water. A shark is a fish. Therefore sharks live in 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UT Fish eat other fish. I eat fish. Therefore I am a fis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ensory input - senses are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must forsake th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Reconciling God and Rea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120" y="205704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oubting we inquire, by inquiring we discover truth.”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Peter Abel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rpose of logic is to support and advance fa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istotle emerges - revered for focus on log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of scientific method invalidates h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urch bans his works - “authorized” ver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Reconciling God and Rea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2057040"/>
            <a:ext cx="3733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onciled doctrines of the church and the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ludes dualism of St. Augustine is wrong - body is necessary to gain earthly knowledge - science is suddenly legitim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St. Thomas Aqui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european%20thought" descr=""/>
          <p:cNvPicPr/>
          <p:nvPr/>
        </p:nvPicPr>
        <p:blipFill>
          <a:blip r:embed="rId1"/>
          <a:stretch/>
        </p:blipFill>
        <p:spPr>
          <a:xfrm>
            <a:off x="3886200" y="2057400"/>
            <a:ext cx="525780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dea exists before merged with an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I can think of table while looking at a tr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dea exists as part of the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 plank still isn’t a t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a exists after object is g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plank is part of a table, no longer a plan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Times New Roman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things move toward a higher plane (Go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Times New Roman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all things move, God is “unmoved mover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St. Thomas Aqui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usan Gregory</cp:lastModifiedBy>
  <dcterms:modified xsi:type="dcterms:W3CDTF">2007-09-13T04:31:31Z</dcterms:modified>
  <cp:revision>1</cp:revision>
  <dc:subject/>
  <dc:title>MEDIEVAL THOUGHT</dc:title>
</cp:coreProperties>
</file>